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F965-AE06-4339-BE39-D9DF7B811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BE9F-1BBD-4D76-B01C-6DF3C6C54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697-F876-4EEF-B5A2-BB46DD50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FF5-A1F5-4DE0-9F45-F831C5C4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53C-FB47-48C2-ADD7-19DEFF3A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E59-EC45-4432-8057-01A0CD50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6D6-C948-4023-A02C-6A7CB5F7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03D-C375-4A1D-87C8-0B84B83F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5EA-B09C-45A5-B630-8116D3F1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6FC-1A90-4A72-AD75-317E65E1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E85-E2F5-4918-9549-EAD71FC2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E3E-0878-4840-B70E-CCA85B81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D94-E4CA-406B-81A7-CADCBCC2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DE7-F245-429A-ADF2-4BC8112B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7473-6C23-4CAC-BD35-9CD0F03E8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na Abdelha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na Abdelhale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429000"/>
            <a:ext cx="182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Merna. Tengo 14 años. Estoy feliz y loca. Vivo en New york. Yo tengo tus hermanos. Amo mi amig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3029040" y="320040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es el deberes?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3657600" y="312408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am bien. I dont want to go to your house. Our friends are in my house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9559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ómo estás tú hoy? I am very bored. Can you come to my house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36576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sotros tenemos matemáticas dede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33412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52578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ñana yo tengo la fiesta. ¿Es todos caminar aquí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95596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373392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somos . Ayat no camina. Ella 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ajar. Tú eres simpático pa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30:31Z</dcterms:modified>
  <cp:revision>111</cp:revision>
  <dc:subject/>
  <dc:title>Profile</dc:title>
</cp:coreProperties>
</file>